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835-729C-4AC2-B308-54100A5B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A4B6-0D45-47E1-B395-CFC57F60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994-70B9-4B11-A6FE-3F8B605B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8E7-6BFE-487C-A958-FC6A1B7C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46E-787E-432E-97D5-F689D80F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440-8E79-4EAA-9AA1-D41C8C41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08E-B62E-4B2D-B968-C0693E02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74C7-3B60-4ECE-B46B-A2E9A806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73D5-D879-47F8-A014-D233AC4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3E3-91E6-4E64-8BF5-86A27518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63D-526A-45ED-B5C8-24C0A5F6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0EE4-2B48-4749-A85F-649FAC54E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EFDD7-F36E-4394-9939-62B3AD580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ndy"/>
              </a:rPr>
              <a:t>letters &gt; sounds &gt; words &gt;sentences &gt;stories &gt; information</a:t>
            </a: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ndy"/>
              </a:rPr>
              <a:t>= the magic of rea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9880" y="4343400"/>
            <a:ext cx="155268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22:16:15Z</dcterms:created>
  <dc:creator>Patty</dc:creator>
  <dc:description/>
  <dc:language>en-US</dc:language>
  <cp:lastModifiedBy>Patty</cp:lastModifiedBy>
  <dcterms:modified xsi:type="dcterms:W3CDTF">2012-12-09T22:38:19Z</dcterms:modified>
  <cp:revision>3</cp:revision>
  <dc:subject/>
  <dc:title>Letters ~ sounds ~ words ~ sentences ~ stories ~ information = magic of reading</dc:title>
</cp:coreProperties>
</file>